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F0A-561C-45F2-B9AD-AE611CB1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2BA-AD87-4EE0-AA66-F21A3634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762-6497-4DD3-AE91-D5495F2F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029-9790-40F2-8768-8766E393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8E0D-2D8B-43B0-B4AA-619D2C46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6FF1-14C9-4014-A76F-31642AEB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505E-00EB-4852-A7F1-1C8852EF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DD9B-D785-455E-A389-701081C7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7839-33EB-4889-A4B3-EBE2CC03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A380-3B36-4FF9-8071-750C640F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8F72-011E-4064-A0C1-510ACD17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F59-E9EA-4BC8-BF75-8CD6B8B4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558D-C7A9-4E5B-94EA-3764D37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FDD0-121E-459D-B1BA-1274006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5EC-AEC3-45EA-8078-A0698424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076E-5B14-4CEC-AADA-64DF34A7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B88A-E672-47FF-8942-CB90E6A1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D690-1D90-4BB7-B29F-EF3368DE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EBAF-63C9-456F-8A9C-C6FDEA26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E69C-1D11-4CCA-9240-8A16D8AE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61D4-1CF4-49C7-9EFE-7AE47C94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8801-E1CD-4B01-908A-28E131F8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90A-CA4A-42E9-8D5E-FBC625FB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69D6-841A-46C0-9E81-E0742FD7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80B8-D07B-4870-9D59-169F3F1B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6AB6-C127-4359-991B-44A1AE85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9A503-27D3-464B-9431-7E62C772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0F52-4888-4378-8D03-B62D2225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4BE6-6A64-472D-ACBC-E292717D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8B64-44DB-4F96-B417-45F311C7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5ABF-71CB-42B8-8FAA-5A7B177B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4782-45D5-4932-8375-7371D7D0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908ED-E909-4E55-9C4B-27CD5876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865-4E35-4564-BECA-7B708327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86CD-B14E-43E8-9BE5-9BF8E664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354C9-6E1D-4CC9-A74E-C4D319F0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7BA3-17C7-48F7-A601-B452845E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A0269-4958-44C8-9977-20AAE71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16F5-3187-4AAE-A75E-F484E43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EE90-6258-41E6-BBD8-3289EC7E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4DC5C-5F1C-49E2-A121-3C158109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0AADF-5DB0-4356-99EA-ACC93564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F01FD-3EA7-4B97-B961-2AA3E428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44F5-AC32-4D90-8E1D-90E7F5AA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A92-394D-46B8-8F6A-0110B4D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7204D-C073-4D93-93EC-DCFF3F2C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437C6-B845-4D5C-B59D-D45E6921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C082F-E22A-4096-9C41-66C0549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74007-7FD8-4830-A3E9-5E3C515B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A7F49-7BB2-4054-9D0A-D7A42DB6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50F4-E59E-4FC2-9B88-34F3A37F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1CEB-9080-4EA7-8BC0-140B877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C8E4E-2362-40F5-A238-5837939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2F5A-772C-458A-8EAC-AC4D25DB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62C82-E57D-4A1C-80B7-2B5F1B5C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C4A-C9A2-49D3-BE6B-0803EE6F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B9B6B-8E5D-4949-9AFA-1AA0490C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48378-25D1-4FF0-8010-A1ACBACC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2B47-F040-4B24-9D37-F9862FB7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C1C19-04CC-464D-AEB7-850EA6C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D1284-3518-48FD-A017-EBF2A7F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0DAA8-F18B-4E64-89C8-7F77FEE7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282E-2B23-49C4-AA11-7A287738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259F-9E1A-4B32-8823-8AFFB23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B80B-F321-4101-AF8C-55F63802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7A82-26F7-4FEC-91BD-608D9E1C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BD0-310F-4AF5-BAD9-0C2F09C9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C41BC-D67C-4BCF-9E5F-9C0A1B97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57CA2-1655-430A-9661-1C650EA6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C4CE7-1873-464A-9331-2FCC95F9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54227-1A02-468A-AEC0-7ABD205C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07E23-CE43-4E1F-AF92-8C511D96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9C3BE-4C07-491D-BFE3-0B23AF67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9CE62-1557-4075-AFE2-CE662F8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785F0-5C43-45E7-ADB2-4C558E96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F52CB-88E1-4CDC-B385-499B72D3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4B4B-E833-45C7-AB14-0B8B433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3CC-2990-4C22-A6C6-91198E82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8244-BB49-405E-BD40-C0422B3B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3EB90-F805-4FDB-AF7E-FFA76C76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96F3B-5789-4087-9BCF-533E254C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4146B-156D-43D3-A654-8A23AE5D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32430-23E4-4EE1-8C4D-736D98FA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860F4-5936-4AC1-9681-26DFC96E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54E06-7A93-4C54-933F-4C1D8ABF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51F20-9C1B-48A5-B2C0-FFE25D2E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7AFD1-E9E3-417D-AAB9-5CF82370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7F54F-7BF2-4630-A954-66F6066C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6A2-3CF6-4B91-B924-30A01A4F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B42A1-3121-4FA7-B856-D12EFE5F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33137-E3A7-4A8E-AB93-51ABD680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91A3A-13CC-4820-9DE8-80A79AA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DD5AE-8A30-4219-92D9-F9F6D5D2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64C86-96C1-449C-8A8C-64CD7E2A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1EF14-DDB8-460D-B5F7-13694191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77CDD-632E-48A5-8AC0-E8010ED8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B8E5-8CF0-4388-ADB7-A7A01351053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D496-DD31-4B5F-A82E-826239739CD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C2B5-0977-4F28-A1E0-A87699F2ED7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EF73-2524-4CCD-8A15-BAB7FC396A6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763A-BF1F-49F7-B8B5-DA679DE68BE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9F2E-70DA-4CF5-8E60-2A5C71ADF76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432E-4D9E-49DA-865B-EB3404A5433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9258-0B7C-4E2A-B934-8FC781F4C3C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PANPADJUN READING SCHOOL</a:t>
            </a:r>
            <a:endParaRPr b="0" lang="en-US" sz="36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Georgia"/>
              </a:rPr>
              <a:t>Gauging Student Needs Assessments</a:t>
            </a:r>
            <a:endParaRPr b="0" lang="en-US" sz="36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Evaluate the common mistakes of the students in using the parts of speech in communication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results of the exam will show how the students understand the lesson. It will tell if the topic is to be continue or need to revise 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</a:rPr>
              <a:t>THE END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682560" y="4230720"/>
            <a:ext cx="8217000" cy="2097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By: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anlaroche, Mitzie Rica T.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adilla, Hyacinth Love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Juntilla, Lorelle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Unit Summary 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unit covers eight parts of the speech. It contains a separate lesson on each part of speech including a PowerPoint slide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 will also complete their choice of a journal writing and a poster making describing the parts of speech. They must use their knowledge of the parts of speech to complete these projects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Objectives 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be able to name the basic parts of speech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briefly defines the parts of speech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correctly identifies the parts of speech in a given sentence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identify the roles each parts of the speech plays in the sentence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Identify parts of speech in a given sentence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select and use various technology tools to accomplish given tasks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21</a:t>
            </a:r>
            <a:r>
              <a:rPr b="0" lang="en-US" sz="4000" spc="-1" strike="noStrike" baseline="30000">
                <a:solidFill>
                  <a:srgbClr val="c1eeff"/>
                </a:solidFill>
                <a:latin typeface="Georgia"/>
              </a:rPr>
              <a:t>st</a:t>
            </a: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 Century Learning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tudents will develop higher-order and 21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century skills in this unit as they: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80000"/>
              </a:lnSpc>
              <a:buClr>
                <a:srgbClr val="d6ecff"/>
              </a:buClr>
              <a:buSzPct val="9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e the Essential and Unit Questions in learning and understanding the parts of speech and it’s importance for effective communication with the aid of computers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80000"/>
              </a:lnSpc>
              <a:buClr>
                <a:srgbClr val="d6ecff"/>
              </a:buClr>
              <a:buSzPct val="9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hare their ideas in front of their classmates and be able to have the qualities as good communicator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80000"/>
              </a:lnSpc>
              <a:buClr>
                <a:srgbClr val="d6ecff"/>
              </a:buClr>
              <a:buSzPct val="9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e poster and  in such as computers to have effective communication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457200" y="2590920"/>
          <a:ext cx="8229600" cy="3727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Project Work begins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Project work is complet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outs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Writing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mission of Journals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uss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er making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er Presenta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   </a:t>
            </a: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Assessment Plan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ssessment Timeline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urriculum- Framing Questions 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Essential Questions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How would we communicate if we could only use simple two-word sentences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What is needed for effective oral and written communication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Unit Questions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How does the correct use of various parts of speech  enable us to write sentences, which are interesting and effective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urriculum- Framing Questions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ntent Questions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What are the parts of speech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What does each part do in a sentence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25:15Z</dcterms:created>
  <dc:creator>nave1386</dc:creator>
  <dc:description/>
  <dc:language>en-US</dc:language>
  <cp:lastModifiedBy>nave1386</cp:lastModifiedBy>
  <dcterms:modified xsi:type="dcterms:W3CDTF">2010-09-03T21:48:57Z</dcterms:modified>
  <cp:revision>6</cp:revision>
  <dc:subject/>
  <dc:title>The Building Blocks of Sentences</dc:title>
</cp:coreProperties>
</file>